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77F-AE46-40A7-A1F8-0BE22FA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5D8-CD71-48F3-A4FC-7053046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B8F-C659-4BCD-9DD2-597ED05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918-DC49-4930-8D8E-73451D77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1E5A-45BD-4E55-B2C7-34649AE0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F8C-7B33-4639-B351-AF7A220B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9405-543B-43CE-BFDA-47D2FF5F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7FF-8A87-439F-8FB3-8B1190DD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B7F-0A1D-4AB2-82EF-7D97F084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468-1534-4058-AE61-D273EC5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5A41-1754-44C8-A543-A7C6A5B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5DA-46C8-421B-B4E1-ABA5F3F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F71E-7841-4780-AB49-0A019188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853-03C0-4609-B7FF-7A67AAC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1EE-9D3E-45D9-8B65-0CCE5E6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C3D-C8C4-403B-955F-F7C24252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4FF-5A9A-42A2-B5DE-324E882B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78B-633C-4FDF-83DC-2D770CB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F16-60A6-4977-A4E2-A3605A5A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977-C9CA-43E2-917A-B94D97AE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460-F45A-4019-8FF9-3A8818A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D7E-31C6-4E18-980D-A435ED7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677-90B8-4DC8-B22F-03BF149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BE4-4740-4547-8129-0F30A14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F4AD-427E-4C6B-83B2-624B9D713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2D9-162B-462D-B868-2FAFFE3C4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Project Team Roles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Chapter 11</a:t>
            </a:r>
            <a:endParaRPr b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m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ses programming languages to develop the underlying code that enables an application to run on computer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ystems Architec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the overall technical design of an application, including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dware and operating system it will run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ts components will work toge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gramming languages and other tools that will be used to develop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 Artis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es original graphics for the application, working closely with the UID, photographers, and any others who contribute to the application’s visual cont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riter and Edito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rs specialize in content or documentation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ditors review the work of all writer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Videographer and Audio Specialist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y record sounds, integrate existing files into the application, edit recordings for clarity, and convert files to different forma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Quality Assurance Analys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specialist whose job involves testing the application and reporting problems to be correcte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mast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keeping a Web site up-to-date and running smoothly, and for helping visitors who have questions about the sit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am Effor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ing large multimedia applications requires the concerted efforts of many people over tim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Project Phase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ny large-scale multimedia projects follow the system development life cycle (SDLC)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95680" y="22287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Project Team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akeup of a project team depends on the nature of the project and its budget and schedule. On small teams, members often fill more than one rol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Team Rol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39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ject teams ma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Represen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 De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rchi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 Art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 and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and Video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ance 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lient Representativ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organization or person who pays for the application and publishes i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Manag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esponsible for ensuring that the team meets its deadlines and stays within its budget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16600" y="1981080"/>
            <a:ext cx="4030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duc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planning and coordinating the development of all the different media in an appli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65530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r Interface Designer (UID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planning all the aspects of an application that affect a user’s ability to understand and navigate i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0:54:56Z</dcterms:created>
  <dc:creator>Danielle Perkins</dc:creator>
  <dc:description/>
  <dc:language>en-US</dc:language>
  <cp:lastModifiedBy>GLENCOE</cp:lastModifiedBy>
  <dcterms:modified xsi:type="dcterms:W3CDTF">2003-01-04T01:38:07Z</dcterms:modified>
  <cp:revision>9</cp:revision>
  <dc:subject/>
  <dc:title>Chapter 11 The Multimedia Project Team Roles</dc:title>
</cp:coreProperties>
</file>